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996315"/>
        <c:axId val="66832602"/>
      </c:barChart>
      <c:catAx>
        <c:axId val="70996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32602"/>
        <c:crosses val="autoZero"/>
        <c:auto val="1"/>
        <c:lblAlgn val="ctr"/>
        <c:lblOffset val="100"/>
        <c:noMultiLvlLbl val="0"/>
      </c:catAx>
      <c:valAx>
        <c:axId val="668326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96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553-8DF5-48BE-8896-69993185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7714-1827-4AB3-8DFA-58B0BA90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DBF-3021-436A-977E-C8FC94E9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4065-F0AF-4F75-AE01-E50582B7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FFAB-C317-41A2-A8F5-2A3E7D10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3F02-E2E1-43AC-9C84-8D829D1A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CD92-5D0B-4A00-AAED-FE320BE8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A323-76D1-4285-A34A-846B32C3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B4FF-6694-40C4-AE6E-676673A8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4E62-4D5C-4C14-804F-1AA19208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CA33-0F1C-415A-A3B7-C4ACC7EC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5BE4-D283-464D-922C-62A78CD8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2AB76-1F9B-4840-8D07-18CE266D3E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