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65288"/>
        <c:axId val="5596933"/>
      </c:barChart>
      <c:catAx>
        <c:axId val="58265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6933"/>
        <c:crosses val="autoZero"/>
        <c:auto val="1"/>
        <c:lblAlgn val="ctr"/>
        <c:lblOffset val="100"/>
        <c:noMultiLvlLbl val="0"/>
      </c:catAx>
      <c:valAx>
        <c:axId val="5596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65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79A-AE8C-4D5E-BA0B-C099CA97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D13-BE93-4F0C-9610-DFB6483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DE5-F32F-411B-AAE4-40CE2D24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CDA-3E1C-4562-99C8-795FA17C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A6A-C51D-4E67-BE11-142B563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64B-3476-4257-B1A8-9DF2806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2CF-D87D-4629-AF50-BF0EC0F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312-36C3-4CA3-8061-9D3693F5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0AA-A34B-4E83-9BEE-CFA7BF41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8B9-E9BA-436F-942D-03DBACF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E04-3856-49F7-927D-90239CA7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08D-C836-4043-A5C0-CD66F21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1F46E-CBFC-4AF3-A346-7E0300E9ED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