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06873"/>
        <c:axId val="21822955"/>
      </c:barChart>
      <c:catAx>
        <c:axId val="30406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22955"/>
        <c:crosses val="autoZero"/>
        <c:auto val="1"/>
        <c:lblAlgn val="ctr"/>
        <c:lblOffset val="100"/>
        <c:noMultiLvlLbl val="0"/>
      </c:catAx>
      <c:valAx>
        <c:axId val="21822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06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787-8F6E-4F4D-891C-74461A19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C82D-B209-4920-AA3D-419D59F8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5C8-97CD-42F1-94BD-5ABAF3E0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BCD-FE32-4C79-AAFB-5DEDB18C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A59-99D6-496D-A082-B95D0474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BBB-2AA3-4BCB-AB88-3B30C0D6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DCA-C086-4890-AEC7-634EBDC6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F64-FCCE-4532-8119-586D7A7A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146-9E24-40EC-A8F9-5A03870D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135-50CF-44EA-8485-839DF12F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371-BA4F-478E-9DE0-77C9A5CF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062-9EB6-4D28-BBC5-512CE19B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067D0-9EBB-4614-AAE4-F78D97EC2C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