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223321"/>
        <c:axId val="74601696"/>
      </c:barChart>
      <c:catAx>
        <c:axId val="102233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01696"/>
        <c:crosses val="autoZero"/>
        <c:auto val="1"/>
        <c:lblAlgn val="ctr"/>
        <c:lblOffset val="100"/>
        <c:noMultiLvlLbl val="0"/>
      </c:catAx>
      <c:valAx>
        <c:axId val="746016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233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9324-9210-4B8F-BB97-E81119BB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98BA-D7D6-4314-B6E4-0F19F47A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D470-A6F5-4AAA-8BFC-BC3AE8237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1FDA-74D2-4D15-ACD2-7E7ADF4B3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03C4-19DD-4881-8552-5511D27F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F2A2-215D-4348-9CAA-4D1BA196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3056-5E17-444A-9D46-2FF4A7BF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D09C-2D98-446B-8991-69967DEF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157C-0556-4129-9F72-C71A3087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2B0F-3B71-4DA5-82AD-8031C70D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B4CD-58DC-467B-BC78-E68D4952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C7F9-1148-4D38-97BC-5B601F41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B0172-9F65-4E3E-81E9-EEA244111B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