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85400"/>
        <c:axId val="12934503"/>
      </c:barChart>
      <c:catAx>
        <c:axId val="18885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34503"/>
        <c:crosses val="autoZero"/>
        <c:auto val="1"/>
        <c:lblAlgn val="ctr"/>
        <c:lblOffset val="100"/>
        <c:noMultiLvlLbl val="0"/>
      </c:catAx>
      <c:valAx>
        <c:axId val="12934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85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C75-FB91-462F-9C38-AD4C5E20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285-65F9-4989-B1FD-6763AC53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C8D-A8C2-48B4-98C8-99689478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E5B9-B3BA-4FFB-8280-76371FF4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A895-E88C-42CE-B36A-35BC7F80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91F-D81D-47E1-AB9D-9BBE70FD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255-37DF-4F97-8411-5A4F610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5AD-8677-444B-A60B-080B03FA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47B-A1E0-419E-9ACF-B2F35D07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326-0098-42E4-8226-04C67DF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F2D-684B-4BAE-B404-05F3190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49D-E7AA-46D9-BFD3-B450578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75F13-0259-4E3B-B148-3C59596850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