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30467"/>
        <c:axId val="12489739"/>
      </c:barChart>
      <c:catAx>
        <c:axId val="82230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89739"/>
        <c:crosses val="autoZero"/>
        <c:auto val="1"/>
        <c:lblAlgn val="ctr"/>
        <c:lblOffset val="100"/>
        <c:noMultiLvlLbl val="0"/>
      </c:catAx>
      <c:valAx>
        <c:axId val="12489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30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14B-1BD6-4DA2-BBD0-1D9C11A0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E9F-0E36-4E0C-B6E5-27C651B0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C19-0790-4B25-B459-8B572F4C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784-7DA5-4138-B27C-F8A63E7B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DB6-603E-4E09-A757-EB2B40E0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320-0A98-4D1B-8840-BCF1FD37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089-502C-430C-B969-7C44A6B3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033-8F6A-4CDA-94B9-080EC1D3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B43-1DA3-4F3F-8A93-81EB3974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E33-B2A5-425A-9940-F3EFB95B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7F8-7411-450A-8DDE-38C533D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3F7-6771-4C27-B89E-FC63BD0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2662D-8D1C-48BC-BBDC-493F3B58CF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