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35043"/>
        <c:axId val="31027486"/>
      </c:barChart>
      <c:catAx>
        <c:axId val="17335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7486"/>
        <c:crosses val="autoZero"/>
        <c:auto val="1"/>
        <c:lblAlgn val="ctr"/>
        <c:lblOffset val="100"/>
        <c:noMultiLvlLbl val="0"/>
      </c:catAx>
      <c:valAx>
        <c:axId val="31027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5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843-A577-4942-9A14-90A35AD6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BD0-9CFE-4EE4-98CE-228ECC5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5D7-BE85-4C38-BAE1-130438E8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AD6-C8AA-4972-98A1-62873361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A43-6036-4A72-9942-95F30BB5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3FD-37B3-4367-8BFB-18257B21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FC7-AC43-4CE5-B8D3-B9311515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B6D-7A45-49D0-9A9F-5196168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CA8-3742-4632-B6B8-488988A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2CD-C64F-4BF4-BC88-804740D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330-2E3A-4EF5-A028-B521F12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7DC-4016-44F3-9998-F326A16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638FA-0A0B-44E4-93F6-F0B13B15C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