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056296"/>
        <c:axId val="4094152"/>
      </c:barChart>
      <c:catAx>
        <c:axId val="350562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4152"/>
        <c:crosses val="autoZero"/>
        <c:auto val="1"/>
        <c:lblAlgn val="ctr"/>
        <c:lblOffset val="100"/>
        <c:noMultiLvlLbl val="0"/>
      </c:catAx>
      <c:valAx>
        <c:axId val="40941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562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A0A5-8AE2-4043-80C0-CE6C2033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CD15-61AA-454F-89E5-4066EDF4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853E-63F4-490D-97F7-87FE5545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C022-0D93-4766-8DDC-910CD8E4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D469-9683-41B4-A347-BF6B766C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24C8-32D4-4CF3-8961-7B5233FA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6B13-B3E7-475E-8E84-F17F31F8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2B66-E1A8-41AB-BE0A-559D4BE2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1B3E-FDB9-4212-BC49-092F5C4C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AB87-3015-4E84-8B15-F3237B93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556E-8219-4026-93EC-01068CFB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899E-D355-4D96-9281-50824D21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46655-CAD7-4E26-BFF4-D070F6FB5F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