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19363"/>
        <c:axId val="33978745"/>
      </c:barChart>
      <c:catAx>
        <c:axId val="56719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78745"/>
        <c:crosses val="autoZero"/>
        <c:auto val="1"/>
        <c:lblAlgn val="ctr"/>
        <c:lblOffset val="100"/>
        <c:noMultiLvlLbl val="0"/>
      </c:catAx>
      <c:valAx>
        <c:axId val="33978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19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5F3-4FB9-4790-A3A2-F7C77F35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E8E-DD8D-4671-AC7D-5AF13031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18B-84BB-4522-A7DE-D0B99252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DC2-6472-4149-8D3D-01BF3E73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A51-151C-4E57-9A5A-CDD52E92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C8D-0CC7-49B8-97FD-60087957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5F6-B32B-4573-9C4D-F059E4C0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B04-F640-4C75-9A87-0D519B23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F28-2585-4EC8-9FB1-BB78DDE0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22A-2055-46D7-9B13-C990D46F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DED-465D-4501-896B-BDF1AB21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CF7-CB60-4A2E-9648-1A6BB68C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7C7E3-9EFC-471D-B4E6-CD6D00E646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