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74949"/>
        <c:axId val="53862536"/>
      </c:barChart>
      <c:catAx>
        <c:axId val="36874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62536"/>
        <c:crosses val="autoZero"/>
        <c:auto val="1"/>
        <c:lblAlgn val="ctr"/>
        <c:lblOffset val="100"/>
        <c:noMultiLvlLbl val="0"/>
      </c:catAx>
      <c:valAx>
        <c:axId val="53862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74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C9F-24A7-4055-957B-1C74D692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46A-F6E2-4F54-88F9-1041CFF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E58-D17D-4CE1-8AB3-244E3117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209-9611-41A1-874B-7D659696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7B9-9540-4D4F-A9F6-37A6896D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EA9-BC50-4BCC-840E-76AF87DC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016-CC83-408D-AE2A-756D59ED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6EA-DD7F-4B91-830A-4BC7B338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9D3-452B-438D-8D57-AB54665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414-0771-4D12-81C0-EE2A37A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C53-3A37-4105-8424-5873F347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9BA-1646-4B7E-AF5B-B5B2AF58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B8A4B-1260-4737-B4CC-E26DC20324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