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59384"/>
        <c:axId val="56484739"/>
      </c:barChart>
      <c:catAx>
        <c:axId val="86059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84739"/>
        <c:crosses val="autoZero"/>
        <c:auto val="1"/>
        <c:lblAlgn val="ctr"/>
        <c:lblOffset val="100"/>
        <c:noMultiLvlLbl val="0"/>
      </c:catAx>
      <c:valAx>
        <c:axId val="56484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59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038-4003-4D53-8580-FEB2E6A5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E47-709C-4309-95C3-3DA6ACC4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E7B-3535-4388-AAEF-FA14F273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9C0-6E34-46D8-8259-980D32A5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826-B688-4846-A8DA-9DB5CEE7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5D8-9338-412F-BDD8-9D061FEE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734-B50E-45B8-A295-A3DEC74D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92F-4C75-48EC-AEFF-EB41935E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B02-9E73-4500-BF01-EA39E40F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6AE-F0BD-47E9-BFA8-38CC5C09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EB0-48F6-45F8-89B2-AE747689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4ED-0107-486E-89A7-3C4635B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82771-071B-471C-A96D-DF7D7868A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