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17108"/>
        <c:axId val="58065052"/>
      </c:barChart>
      <c:catAx>
        <c:axId val="68317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65052"/>
        <c:crosses val="autoZero"/>
        <c:auto val="1"/>
        <c:lblAlgn val="ctr"/>
        <c:lblOffset val="100"/>
        <c:noMultiLvlLbl val="0"/>
      </c:catAx>
      <c:valAx>
        <c:axId val="58065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7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3B3-E8FB-4849-A3EC-99FAAE5B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670-8586-49D1-A261-5426ABBA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EF7-7DDF-4D0E-8542-913B01D0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AD7-9ADE-4712-81DF-5A60A46A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B67-2A9B-4D46-9EFB-B23AEAF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090-2467-4535-B540-827543E4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116-6E18-4D7C-A9A8-3F91F80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3EA-D30D-4DC6-BAFE-F442712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5D8-6B68-44A6-B2AB-98ABF4A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035-1791-4AF9-B4D5-F4F480D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FE8-4BFE-41D1-BCAA-D58EE9CB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59E-032E-4B31-9BA5-B1B96D28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25000-1837-45A1-93A6-3A82E6BAF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