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562118"/>
        <c:axId val="82672356"/>
      </c:barChart>
      <c:catAx>
        <c:axId val="245621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672356"/>
        <c:crosses val="autoZero"/>
        <c:auto val="1"/>
        <c:lblAlgn val="ctr"/>
        <c:lblOffset val="100"/>
        <c:noMultiLvlLbl val="0"/>
      </c:catAx>
      <c:valAx>
        <c:axId val="82672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5621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4D6A-9F15-4B9E-B8ED-B2EB9D780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DF21-3DFB-4EDC-AF76-A8DEDD296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F662-F70E-4D92-BEB7-6BDB92451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1B4F-1D61-43A1-AF8F-156A53743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205D-72C0-4FF9-840B-C692A806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D7636-AC9A-4D6D-B714-DC0EEECB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8EE-F840-4895-B8AC-2976494D4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A98-A97E-4A1B-9BEC-02762F23A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2632-1C8C-48D2-AE08-3AED558EA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A946-E474-49D8-8086-C0E8B0359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0730-9350-4FD5-9EBE-C0B8937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80B4-4D15-4F56-91BE-AFCA29DF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DCE7F-37AA-4B98-9492-1399A7562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