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232073"/>
        <c:axId val="68723252"/>
      </c:barChart>
      <c:catAx>
        <c:axId val="802320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723252"/>
        <c:crosses val="autoZero"/>
        <c:auto val="1"/>
        <c:lblAlgn val="ctr"/>
        <c:lblOffset val="100"/>
        <c:noMultiLvlLbl val="0"/>
      </c:catAx>
      <c:valAx>
        <c:axId val="687232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2320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3BDB-0CD1-419E-A2B6-F68563AA7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CDF2-08AE-4639-952B-D47757D42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D40C-02BB-4AAF-9BD5-7D9CFEB90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D749-4821-44E8-8BCE-7F7D2B796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0D57-7250-4D49-A387-05F0B6166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9AE2-3B95-4E3F-9769-A7B21904F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4C3F-97B5-4E6C-80EA-4E612877A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6452-2567-43F5-AA80-3753FCB99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2650-ACB2-43C9-A0FF-45DD2DE92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53B1-A89A-467C-A1CA-1E5C1DCE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B5B0-1334-4F5A-AFC5-68EB7D39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8E9F-4D38-40C4-84E2-8E0A896D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2F2728-2032-4E05-9128-B6DB750A67A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