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299819"/>
        <c:axId val="62815339"/>
      </c:barChart>
      <c:catAx>
        <c:axId val="622998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15339"/>
        <c:crosses val="autoZero"/>
        <c:auto val="1"/>
        <c:lblAlgn val="ctr"/>
        <c:lblOffset val="100"/>
        <c:noMultiLvlLbl val="0"/>
      </c:catAx>
      <c:valAx>
        <c:axId val="628153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998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C021-4499-4A61-BD58-EB059E79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CE11-EA4E-4ED2-A132-74F2EC43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C7B3-5083-4A05-9FCA-B6A3B581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971B-9B62-4CDC-9A86-284C6F08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DBA-4084-4443-AC16-73D384ED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1C39-2DC4-4417-81A2-A59AEA66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5C0C-D644-40C7-9E0A-DCFA390F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7B3-59F4-489E-A47D-88378CB1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F91E-5B22-4D54-BD4D-8C81CB0D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8362-D202-48C5-8CFB-65AA714F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D6BF-773B-42F6-BAE5-354A737F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DAF4-27F3-41A0-A16A-D07AA8FD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F0B97-76AA-4BA4-8A75-6D5826E380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