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48775"/>
        <c:axId val="54447826"/>
      </c:barChart>
      <c:catAx>
        <c:axId val="24148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47826"/>
        <c:crosses val="autoZero"/>
        <c:auto val="1"/>
        <c:lblAlgn val="ctr"/>
        <c:lblOffset val="100"/>
        <c:noMultiLvlLbl val="0"/>
      </c:catAx>
      <c:valAx>
        <c:axId val="54447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8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927-9B56-4D39-B2AC-D301EAFE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D8D-B01B-42C0-947A-138BC107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514-7715-4C7B-B246-E14D183C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F3B-B061-4AD4-B3A0-E6C6774E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94D-8C6C-4761-9FAD-DBE2B9B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B3F-6E4A-40B1-A59F-E3D8278F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ED7-A994-40DA-8841-4CD99B6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4C0-BCDD-4533-9CCA-49CB638F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077-7D8C-43B2-B992-E383BA28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E67-B7C0-40A5-8325-00127DB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54F-E90A-49A2-956B-6F06372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98D-9C88-459B-9962-3D1D68A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F2BA5-29A5-424F-82C0-3C7F9AE85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