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10402"/>
        <c:axId val="22942728"/>
      </c:barChart>
      <c:catAx>
        <c:axId val="10310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42728"/>
        <c:crosses val="autoZero"/>
        <c:auto val="1"/>
        <c:lblAlgn val="ctr"/>
        <c:lblOffset val="100"/>
        <c:noMultiLvlLbl val="0"/>
      </c:catAx>
      <c:valAx>
        <c:axId val="22942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10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2D1-9FE9-4FB4-A147-C3C769DC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7AF-40B0-4A1D-B2DA-A4D25E9D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BB6-AAFB-41D2-9047-931E3278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76E-5AE8-4DAF-AC77-83882AA8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FDE-A3B9-48A7-87CD-0B536B84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FEC-C3D8-47BE-9937-D55F4E3D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CFC-8CAD-47A6-9EAB-363795CE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568-C3CC-4A5E-AA17-A14E302A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6CF-0568-4689-AD42-A628D2C9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D3F-8BF7-40D7-AFFA-C208DEFC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350-4218-41DB-9150-3766003F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A2C-7DB4-4EDF-82A5-58B4BF60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B6004-24EA-4608-9A3F-604CEEE5B6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