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94186"/>
        <c:axId val="93886288"/>
      </c:barChart>
      <c:catAx>
        <c:axId val="825941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86288"/>
        <c:crosses val="autoZero"/>
        <c:auto val="1"/>
        <c:lblAlgn val="ctr"/>
        <c:lblOffset val="100"/>
        <c:noMultiLvlLbl val="0"/>
      </c:catAx>
      <c:valAx>
        <c:axId val="938862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941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7539-3CD3-484D-A252-F309F128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9F3F-C1CA-4A7E-B3EF-3ED97E77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D10E-A73C-4183-8A05-0AAF5941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16E-05B6-4347-94D7-4BE34528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CB5-FBCE-481F-B0E8-B22D6FDD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631-44B6-476E-B0A1-B83ECC37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790-69B3-4824-902D-6A841DE0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E73-7E52-426E-A5D2-3FF8EB56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6929-B893-4440-9F62-C5A3BF4B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0F1-BA4B-401D-8E25-3B2B56C9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385-0FA3-4A82-B8A3-A387487F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0D5A-0708-4BA6-AAE5-80068EE9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E06B6-2775-4167-BAE6-D33A9D1781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