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04718"/>
        <c:axId val="2096766"/>
      </c:barChart>
      <c:catAx>
        <c:axId val="541047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6766"/>
        <c:crosses val="autoZero"/>
        <c:auto val="1"/>
        <c:lblAlgn val="ctr"/>
        <c:lblOffset val="100"/>
        <c:noMultiLvlLbl val="0"/>
      </c:catAx>
      <c:valAx>
        <c:axId val="2096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047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7CA5-016F-4D74-AD13-25402934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446D-DE6D-425A-B202-D709FB01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F733-6553-428D-A645-1F5D0EC8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572-8276-431D-86DE-6B1DCF60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AF89-E357-4E93-B28E-9CC8CF22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8B72-ACF0-4DC7-AFBB-7899505C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9B2-8432-4C7B-A838-E70925E2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EB40-952F-4E14-A4F0-2D5697F3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7C64-EA28-40AD-AF39-A6934D8B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40CF-C23E-4BBE-8314-7BC8D36A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FB3F-A3E4-4430-ADB7-50344961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D191-D17D-4A20-8721-E049BBF9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48AC3-08BF-47CE-A60E-475A39613B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