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7739"/>
        <c:axId val="97731702"/>
      </c:barChart>
      <c:catAx>
        <c:axId val="8717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31702"/>
        <c:crosses val="autoZero"/>
        <c:auto val="1"/>
        <c:lblAlgn val="ctr"/>
        <c:lblOffset val="100"/>
        <c:noMultiLvlLbl val="0"/>
      </c:catAx>
      <c:valAx>
        <c:axId val="97731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7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0B3-C5E6-4A86-9268-1F396CC1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2E0-6282-4155-BE47-D910EA1C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E90-5D7C-4A36-9E5C-C5425CFD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3AA-F03E-4EB0-971A-3613D124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E51-6B1E-4D7B-B942-CB92B698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2C8-9517-44B3-90A6-6FFD1CF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37F-0838-4E6C-B9E4-5CCC651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A9F-25BA-41BB-B585-30FA506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7CC-1697-45F2-98CF-A280238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AAD-7921-443F-ADE9-6679CE8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F81-106D-49FD-90F0-21A0A122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A29-6DAF-4899-81D6-0D65A74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606B0-B726-4809-9955-261603AFE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