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7682"/>
        <c:axId val="30846360"/>
      </c:barChart>
      <c:catAx>
        <c:axId val="2587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46360"/>
        <c:crosses val="autoZero"/>
        <c:auto val="1"/>
        <c:lblAlgn val="ctr"/>
        <c:lblOffset val="100"/>
        <c:noMultiLvlLbl val="0"/>
      </c:catAx>
      <c:valAx>
        <c:axId val="30846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7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BBF-89D9-4132-BF5E-72B36FB6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029-A064-43CB-8D99-E4A28958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499-5E27-4248-B625-E9248B2C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539-938B-4BD3-ACC8-996C797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778-3D96-4672-A15E-846DB6B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547-1DD0-4411-987E-845228C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C42-2E63-4E4C-8749-E3934AB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8F3-FD57-4F6D-BF22-B00C63F6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43D-B57A-479D-B9A3-E8D17FC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711-E142-4CB6-B6D7-555E87F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C53-6B38-42D5-B7E3-2B75DE94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519-7BA0-415B-BEEC-B9DE7ED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504CB-0516-49FA-83DB-10A1DDB37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