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22980"/>
        <c:axId val="3562513"/>
      </c:barChart>
      <c:catAx>
        <c:axId val="83222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2513"/>
        <c:crosses val="autoZero"/>
        <c:auto val="1"/>
        <c:lblAlgn val="ctr"/>
        <c:lblOffset val="100"/>
        <c:noMultiLvlLbl val="0"/>
      </c:catAx>
      <c:valAx>
        <c:axId val="3562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22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B1D-CF44-4E52-BAF9-C3FE9B2D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2BD-5858-44A5-9C49-0BE02840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A6F-8909-4F02-8B7F-1F763E9F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475-8974-422F-9A72-95F7A360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133-29D7-4EB5-B72A-D2D8201A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501-3982-4719-8333-83106901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FFE-3D23-45C8-A728-B7D64353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442-EA59-4B3F-9B7A-E993A9D8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5B5-3736-425C-8186-9F998DCC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C83-890F-4B44-94E7-5620B85E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AC8-3A95-4972-B9C3-F4AC379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6EF-AD1E-477E-82AB-2FD5689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31E98-DAD7-45F5-B5C6-776466643C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