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4330"/>
        <c:axId val="1395646"/>
      </c:barChart>
      <c:catAx>
        <c:axId val="6394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5646"/>
        <c:crosses val="autoZero"/>
        <c:auto val="1"/>
        <c:lblAlgn val="ctr"/>
        <c:lblOffset val="100"/>
        <c:noMultiLvlLbl val="0"/>
      </c:catAx>
      <c:valAx>
        <c:axId val="1395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4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767-2CEE-4C7B-B7DC-850C6082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912-1613-41B5-8A73-75D99D2B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393-F298-4CDD-A1AD-4D31A8FB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6F14-C9E6-4963-9603-2282D930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AA6-4107-40DE-B904-C1D3136C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098-1FDB-4664-8737-578E8CD4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F10-AE7B-4D19-A7CD-586808F2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79E4-48A0-4BA1-A3F1-7AD7BAA8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7C5-DD5E-4639-BB58-28F1CA40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C5A-213C-402A-AC85-19115DD4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6987-2E3A-4C13-9658-9E2B04EF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A52-1FE2-43F8-8E78-5D647964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5E0D2-A057-47D9-92FD-0E97B1EBEA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