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80113"/>
        <c:axId val="44036881"/>
      </c:barChart>
      <c:catAx>
        <c:axId val="63480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6881"/>
        <c:crosses val="autoZero"/>
        <c:auto val="1"/>
        <c:lblAlgn val="ctr"/>
        <c:lblOffset val="100"/>
        <c:noMultiLvlLbl val="0"/>
      </c:catAx>
      <c:valAx>
        <c:axId val="44036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80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3AE-1AEB-4E57-B7F7-AD89E9BA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CF7-EA82-4CE1-BEDB-0126FFB2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00C-82FA-452B-8ADA-7E942C29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7BD-B485-4C4E-99E9-F322C412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2E0-6E68-4C2C-8E93-4918BC6E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61A-B97A-4A7A-8C82-80A9E068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C4C-11B7-4AA3-AD70-9F2E731D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326-F4CB-4889-99D8-E49B2A26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321-5845-4AB3-B438-15FBC28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1D6-6246-462A-B281-BEF63F72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5C2-1BDD-491F-B7A1-42567DCC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A76-A81C-4338-85E4-B5AE3716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4B25E-F850-4CEA-977B-B47EEB8D40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