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40780"/>
        <c:axId val="82928402"/>
      </c:barChart>
      <c:catAx>
        <c:axId val="45040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28402"/>
        <c:crosses val="autoZero"/>
        <c:auto val="1"/>
        <c:lblAlgn val="ctr"/>
        <c:lblOffset val="100"/>
        <c:noMultiLvlLbl val="0"/>
      </c:catAx>
      <c:valAx>
        <c:axId val="829284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40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FBA-9055-4A78-AB57-9DCD8A8B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00C-BFB4-4DE7-A90D-D4DAA0EF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911C-2BC7-477E-9C8F-9529F3AF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4D9-95CE-4C94-BACD-EA748198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6431-3F51-44EE-8C5B-B1FD4FF7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433-9E99-46C8-91A8-DC9D6270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A40E-FFCC-4D3A-9642-B8ED97A0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5E0-F7AA-46B5-9052-13CC6D2A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7205-EDFE-4630-9702-AB7DFD42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BA28-6AAC-4632-A30C-9CE42CE2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098-EF2E-4813-B23A-A136137B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A2FE-7E94-4437-8371-9AAECD53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FD311-E38B-4BA7-8C86-650F50C980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