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816133"/>
        <c:axId val="93786313"/>
      </c:barChart>
      <c:catAx>
        <c:axId val="748161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86313"/>
        <c:crosses val="autoZero"/>
        <c:auto val="1"/>
        <c:lblAlgn val="ctr"/>
        <c:lblOffset val="100"/>
        <c:noMultiLvlLbl val="0"/>
      </c:catAx>
      <c:valAx>
        <c:axId val="93786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8161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DE9-0E75-425C-9D30-8FB199DA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F6B3-E796-49A0-940A-79BBAFCC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5FC-59FA-407E-9B9A-F3FED53F6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401-62F7-4BAF-8990-431DC081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F493-FA5B-4C6B-99DC-B97F6A7F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E6EA-7DFE-4072-8009-A85630B2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7730-4257-44F5-9D18-6A01485A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1948-4F9A-40AD-BC05-43ADE09A1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02F2-6507-401C-80C0-27B3DE7E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C85-FD1A-4AB5-AB6A-E2DDEFB6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1A86-D83B-4B6C-BFD3-9308630C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2F3-C89A-4FAA-B25E-2B95A323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A99821-696F-4A41-9CE6-6594AC1204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