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91891"/>
        <c:axId val="65649352"/>
      </c:barChart>
      <c:catAx>
        <c:axId val="68991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49352"/>
        <c:crosses val="autoZero"/>
        <c:auto val="1"/>
        <c:lblAlgn val="ctr"/>
        <c:lblOffset val="100"/>
        <c:noMultiLvlLbl val="0"/>
      </c:catAx>
      <c:valAx>
        <c:axId val="6564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1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425-4227-4143-B401-426F0A19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E17-526D-426F-BC32-C507950F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C44-C08B-4438-9426-8B28E69F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54D-8DEB-4F78-861E-10BDAE99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2E4-3A4B-4976-B5CB-BB69C05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FAE-1ACA-4051-9BA0-420E09F7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0BA-D41B-4D8D-B30B-3478ACE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FD3-C279-4DC5-A869-E54C687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170-53E0-4BB0-96CE-1162B368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E91-4D01-4992-81F7-22B673D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E2F-0271-4A02-8627-9520B5A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928-816F-48F3-8811-0886430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C2DCA-239E-45D4-A575-6D3289D2C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