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89545"/>
        <c:axId val="26097218"/>
      </c:barChart>
      <c:catAx>
        <c:axId val="96689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97218"/>
        <c:crosses val="autoZero"/>
        <c:auto val="1"/>
        <c:lblAlgn val="ctr"/>
        <c:lblOffset val="100"/>
        <c:noMultiLvlLbl val="0"/>
      </c:catAx>
      <c:valAx>
        <c:axId val="260972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89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A97-2F09-4E43-A291-22E7E7D9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AE6-7947-4A9E-B365-1C5AD231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9EE-35C9-40AD-9C0F-8F16EBD80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E6E-F9F9-4B9D-93FC-2072DFFE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CFE-BC9B-435E-8F66-47616C7E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EAD-51F2-4876-9DEF-40934462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3FD-63F1-4639-8B39-0D898DB8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0A7-DC29-4001-BD3F-E3AC35EB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C0F-C792-4C62-8731-44D8534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80B-9D6E-44D5-9276-66F1A322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309-8279-4FDE-A80B-F044C94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3E0F-6441-4FE5-B430-7B49776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E6B78-DDD0-4FB2-B92D-1D01CC0804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