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21702"/>
        <c:axId val="84224636"/>
      </c:barChart>
      <c:catAx>
        <c:axId val="10421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24636"/>
        <c:crosses val="autoZero"/>
        <c:auto val="1"/>
        <c:lblAlgn val="ctr"/>
        <c:lblOffset val="100"/>
        <c:noMultiLvlLbl val="0"/>
      </c:catAx>
      <c:valAx>
        <c:axId val="842246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21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1A0F-B5BB-4695-AB9B-DF12DD14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9B5-5B6B-4BC3-B349-9516FEF5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594-705E-4054-BA6B-997DBF48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2D9-0EC6-4948-A8C9-9CD84C56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F5BF-F45A-4D4F-AEB7-AE1503E8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A910-C371-4740-9FBA-1A9491A6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2E7E-0172-46AC-8D5A-193980D3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0AB2-FEC7-4001-90C8-EF705D55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BF3-2770-4D4B-A877-77B57159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0998-F944-44D3-87AA-8C27FF17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109-DA09-42C4-9AFA-68F1EB8D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CB6-E5A4-4EC7-8903-5BD33829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EC4CD-969F-431C-90AA-8014F880C4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