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45472"/>
        <c:axId val="30517432"/>
      </c:barChart>
      <c:catAx>
        <c:axId val="89545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7432"/>
        <c:crosses val="autoZero"/>
        <c:auto val="1"/>
        <c:lblAlgn val="ctr"/>
        <c:lblOffset val="100"/>
        <c:noMultiLvlLbl val="0"/>
      </c:catAx>
      <c:valAx>
        <c:axId val="30517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5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369-651F-4F79-95C8-D35F6DAC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EAB-1747-492F-A46B-F2AD367A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3B2-2E2C-493F-81B4-96D257C8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AE7-A8AA-4372-9EC9-C1897E30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146-929F-4335-94B3-B528CC1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5CA-CF30-43CE-919D-677F459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4B0-8D3F-4AAF-89B3-AEAC894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CEA-86D1-4739-BCD8-EF3D6F2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636-6289-4754-BB64-02797DF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22C-9DD5-4E62-AFAF-8623B28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C36-2293-4032-977C-6BFD867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B31-0E70-4F10-9E0C-65BB985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DBC56-65CD-4E70-B6FD-367707B05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