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63456"/>
        <c:axId val="84359008"/>
      </c:barChart>
      <c:catAx>
        <c:axId val="97663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59008"/>
        <c:crosses val="autoZero"/>
        <c:auto val="1"/>
        <c:lblAlgn val="ctr"/>
        <c:lblOffset val="100"/>
        <c:noMultiLvlLbl val="0"/>
      </c:catAx>
      <c:valAx>
        <c:axId val="84359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3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922-A7EB-4C44-BD28-9EA1FDC2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06C-8A60-4715-9EE4-9FEFA016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AA2-F1AB-49F4-8BF5-B7D1CD3B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33D-4C64-4B10-BDDF-F143885D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1CE-7DEF-49C3-B270-1F99D086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FC5-9E81-4C32-B3C1-239D0E32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ABF-D731-4B35-8F8F-B62944DA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448-A6BF-4FAA-93A3-22F5EB22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920-52D3-4B63-A538-7C3B064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47A-3EBD-4E40-B5CD-43C69093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A7A-00AE-4074-AAA5-31DCA677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0FA-F192-4DB9-A726-799A3174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30735-2DFD-49B4-A87E-CAC78D7F08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