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18017"/>
        <c:axId val="22430096"/>
      </c:barChart>
      <c:catAx>
        <c:axId val="70180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430096"/>
        <c:crosses val="autoZero"/>
        <c:auto val="1"/>
        <c:lblAlgn val="ctr"/>
        <c:lblOffset val="100"/>
        <c:noMultiLvlLbl val="0"/>
      </c:catAx>
      <c:valAx>
        <c:axId val="224300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180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4BBB-03DF-41E0-9A8B-62CB08C08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79B-9081-473E-A331-37D46FD6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34D2-4396-437D-85E1-A0A7883C5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EFD-C0A7-43CA-995D-5D75F34C7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AD62-1771-4514-BFB7-64160440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512-6D43-4C10-8F37-A8EF82FB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96FE-F0B1-4FAD-ADF0-8E53A8A7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AFC5-1CD3-45AA-9437-9276578EF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5D76-5099-4C9B-9B0D-9928CBB8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EF12-BA99-4788-98D0-27C7C21FF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9BD6-377C-428A-AD4D-B77EBB81F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DBEA-735A-4661-9F6D-1DAB252E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61F3F1-D932-43C1-B4B4-5FCFA3C2D2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