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87717"/>
        <c:axId val="15296160"/>
      </c:barChart>
      <c:catAx>
        <c:axId val="19787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96160"/>
        <c:crosses val="autoZero"/>
        <c:auto val="1"/>
        <c:lblAlgn val="ctr"/>
        <c:lblOffset val="100"/>
        <c:noMultiLvlLbl val="0"/>
      </c:catAx>
      <c:valAx>
        <c:axId val="15296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7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341-E729-490C-865D-3CF81338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8F5-0516-436C-ADBB-EDDCC165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DAD-7AFC-4CC9-934B-3E309306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44F-098A-421A-A292-655DE6EF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1EE-8A21-44E3-939A-D60667D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6A5-F952-4CCE-9505-18EEDD0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0DE-09B1-4E5E-8D3A-3DD29F5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6A6-6100-4336-9D51-619B304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A24-9A21-4E17-815F-5E306105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F32-23AC-4CD1-B584-F43C119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FCD-3F53-4855-A607-BE96FBD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353-50CD-41B5-81E1-A28D8085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40558-6079-418C-B271-893FF6C685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