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43937"/>
        <c:axId val="18668245"/>
      </c:barChart>
      <c:catAx>
        <c:axId val="34443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68245"/>
        <c:crosses val="autoZero"/>
        <c:auto val="1"/>
        <c:lblAlgn val="ctr"/>
        <c:lblOffset val="100"/>
        <c:noMultiLvlLbl val="0"/>
      </c:catAx>
      <c:valAx>
        <c:axId val="18668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43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41F-47A4-425D-8405-815C4EE8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93D-D9DB-4383-A6CD-AD621990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493-60B1-4477-AD3B-D48950C3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249-1927-4A04-A961-D2FD2B9C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7EA-8BA5-414B-9F22-7BB48579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C09-888D-4ADF-8360-9967E2A3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303-E5A9-4509-ACC7-9D74F0E4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FEE-54DA-4EBA-89B4-2004C01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ABB-7BEA-48EA-A49F-6211352F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67B-C7DF-49A5-8EC8-34514D75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200-FD29-471D-B2A1-9541E0F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E8A-2C59-4CC7-B526-BF75DD1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AFD8A-05F7-4BF8-A9AC-5A7AC598CB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