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00808"/>
        <c:axId val="81481381"/>
      </c:barChart>
      <c:catAx>
        <c:axId val="86700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81381"/>
        <c:crosses val="autoZero"/>
        <c:auto val="1"/>
        <c:lblAlgn val="ctr"/>
        <c:lblOffset val="100"/>
        <c:noMultiLvlLbl val="0"/>
      </c:catAx>
      <c:valAx>
        <c:axId val="81481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00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578-4C44-4494-AD42-275E4FF9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3AD-5352-4088-8F80-0964555D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DD7-877C-4B0B-AEDA-128D0CC0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B3F-8B49-4FD8-BE2B-47F9DC26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53C-4623-4C05-98C2-46B92434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708-FC90-41EA-8D2E-E864019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646-DE41-4AF4-B02C-4484F069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C5E-229F-407E-B13A-ED7A787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D82-0812-4AB3-A75E-D6ADC20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8D1-DADC-4E0E-97F1-A95AC9E4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8F4-CC13-43D6-9A97-C19DD59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121-3C2A-4774-A638-E37CFCC3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97483-8ADA-449C-BE33-2FAFF2B821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