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00541"/>
        <c:axId val="47773921"/>
      </c:barChart>
      <c:catAx>
        <c:axId val="33500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73921"/>
        <c:crosses val="autoZero"/>
        <c:auto val="1"/>
        <c:lblAlgn val="ctr"/>
        <c:lblOffset val="100"/>
        <c:noMultiLvlLbl val="0"/>
      </c:catAx>
      <c:valAx>
        <c:axId val="47773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00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201-01FE-4B26-BA86-F771CCC5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7BC-E5A8-440C-AE7A-0EFEF610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B41-0F8F-4308-8FD0-877E57AA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CEB-9713-4E2C-8CCC-4A70BA74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5CC-336C-4975-9F65-4F01A8B5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084-F76E-45C9-93E3-06AFDDA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DBB-4673-4025-81AB-203478D3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E5C-93D7-4117-8B9C-A12B8150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58D-B09E-4965-A08B-C9B970F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2A2-68D0-456E-A08F-FC351ABD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C6E-DACC-41D4-9BBA-63317B69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CB1-45A4-4827-BE8B-8EE12C5B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FE22D-63BB-44D2-A8CD-748E431A15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