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2733"/>
        <c:axId val="2950386"/>
      </c:barChart>
      <c:catAx>
        <c:axId val="8632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50386"/>
        <c:crosses val="autoZero"/>
        <c:auto val="1"/>
        <c:lblAlgn val="ctr"/>
        <c:lblOffset val="100"/>
        <c:noMultiLvlLbl val="0"/>
      </c:catAx>
      <c:valAx>
        <c:axId val="2950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2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46D-1946-4BCE-962D-C6AD3DF8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48A-6F9B-4233-ADEC-26C2723C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971-1979-4E41-9C92-C3370C7B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C0A-0411-428D-9A11-3F747071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FB5-CAEC-4643-8291-4926A27A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B89-6185-4FA2-8F18-BD15957D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539-6DE3-4822-A584-06C0BC8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334-6F2C-4C16-956F-C27151F5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974-6D8E-42E7-BDF2-84E62A87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CFE-0AE0-476B-A5C4-39195B6C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1D3-4313-445F-B615-6833F500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E7C-635A-49E7-BE6D-B72A693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6F56F-0471-4C43-9E3D-9B9BAC1424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