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33264"/>
        <c:axId val="32269371"/>
      </c:barChart>
      <c:catAx>
        <c:axId val="46033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69371"/>
        <c:crosses val="autoZero"/>
        <c:auto val="1"/>
        <c:lblAlgn val="ctr"/>
        <c:lblOffset val="100"/>
        <c:noMultiLvlLbl val="0"/>
      </c:catAx>
      <c:valAx>
        <c:axId val="32269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33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268-AC3D-4067-B623-267D7BD6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DE5-50B3-4E03-AEAA-471DA6E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CE1-505C-44BE-BE08-7C1523C7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131-6FF4-4012-9448-0503DB32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A1A-BA3B-4A75-B17B-52A7D20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A97-7B40-4FD1-8BE5-AB9667AD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845-2D2C-4C25-9E36-2D978DFC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2D0-20AA-4EBA-9E84-A34D546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54E-DE95-4742-810E-2B5AC36D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127-8592-4078-B57A-2E8F339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2EF-963F-4FEC-BFEA-73A0A64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42D-6064-43F6-AD72-009F15B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51CF7-544D-4576-A1D6-3655C87C7F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