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85549"/>
        <c:axId val="36846660"/>
      </c:barChart>
      <c:catAx>
        <c:axId val="32185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46660"/>
        <c:crosses val="autoZero"/>
        <c:auto val="1"/>
        <c:lblAlgn val="ctr"/>
        <c:lblOffset val="100"/>
        <c:noMultiLvlLbl val="0"/>
      </c:catAx>
      <c:valAx>
        <c:axId val="36846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85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90B-46D2-4AD8-B6A8-B8D44631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734-258B-48F9-8C85-042B73A5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808-E6DE-44E2-900E-B22EF499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BA0-E0D8-48AA-AE7B-E72F26BB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497-F0DF-48B3-B8D6-3C5FCEEA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5D3-7427-417A-B151-AFBA00ED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AED-F08C-41F7-B6DC-BE73C6FF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181-FA14-4CDC-93EB-5728CAA9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8FE-A064-4B7B-966A-2F387B56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26B-AD07-4E93-8BAC-082C669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5DC-0E53-486E-8D57-5A36B94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D92-95DA-4A9F-AA45-A8084411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C453D-917A-4598-8AE4-26DF9428C0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