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906912"/>
        <c:axId val="51656825"/>
      </c:barChart>
      <c:catAx>
        <c:axId val="419069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56825"/>
        <c:crosses val="autoZero"/>
        <c:auto val="1"/>
        <c:lblAlgn val="ctr"/>
        <c:lblOffset val="100"/>
        <c:noMultiLvlLbl val="0"/>
      </c:catAx>
      <c:valAx>
        <c:axId val="516568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069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6440-FCFB-4520-8EE6-0E163A01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5337-D5BF-488D-AB76-1D371D3E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C753-0C12-48D8-AB57-244BFCB7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99F-FBAB-4E42-95DC-7672C919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E663-EBBA-44E4-8F51-58FCD879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B2E6-B418-45CC-A859-C1F21040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9D99-B50D-400D-B78E-08CEEE87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9B02-46F3-47CA-B2EE-B4DCD1C3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D59E-7B11-4D97-B009-E712FC0C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794F-9C50-4853-A2A6-EF07DBDE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018D-11DE-456C-8027-FE0EE816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3F3A-F9E0-45AA-8EEE-7D5591B4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96BDA-D1BE-4A08-BA5C-35FF88EA9B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