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66272"/>
        <c:axId val="89248304"/>
      </c:barChart>
      <c:catAx>
        <c:axId val="553662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48304"/>
        <c:crosses val="autoZero"/>
        <c:auto val="1"/>
        <c:lblAlgn val="ctr"/>
        <c:lblOffset val="100"/>
        <c:noMultiLvlLbl val="0"/>
      </c:catAx>
      <c:valAx>
        <c:axId val="89248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662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1E3-8DFD-40DA-8000-FCAF02A0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1BD2-B983-4CAE-B286-D3B7BE64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06B-590F-4981-AAA0-19A5EDF1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53D-BE77-47FF-A6DD-31CB0524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316-2366-4784-B963-92852546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576C-1266-4652-8982-8A9D3622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FC9-BE1A-4E38-90DB-BE609645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57E9-0239-4FCE-9FB4-34ED5689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F12-A499-42C0-865B-4D4518E7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F1AA-F09C-4778-AA9F-86373F51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885-3318-474F-A6CC-768F693C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F5F-6CCE-4F97-879C-DD121B8F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80B6B-3ADD-4C7F-9E2A-5FE0E8422B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