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94063"/>
        <c:axId val="77889607"/>
      </c:barChart>
      <c:catAx>
        <c:axId val="47394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89607"/>
        <c:crosses val="autoZero"/>
        <c:auto val="1"/>
        <c:lblAlgn val="ctr"/>
        <c:lblOffset val="100"/>
        <c:noMultiLvlLbl val="0"/>
      </c:catAx>
      <c:valAx>
        <c:axId val="77889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94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CFE-AFDB-4A18-BA62-BA39C73B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3DD-D28C-4EE0-B682-38964318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2A7-9F4C-4A34-9108-75A8740F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72F-B2D2-4257-8509-236C1514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09A-17FE-4A79-B45F-5E397942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BAE-EA8E-420F-B095-0A827311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205-51E3-477B-ABFC-1D2A0887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9BD-B24B-43B2-BF88-002E83C9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E2B-9D35-4A51-9567-5332139A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069-2B8C-41F0-A476-CA69674E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B7A-7708-4DBD-8E9E-4E679F6A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AB4-663C-4884-A099-256E7691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922EB-CE5B-4DF0-8EE9-696DEEF0E4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