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136789"/>
        <c:axId val="25126521"/>
      </c:barChart>
      <c:catAx>
        <c:axId val="161367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126521"/>
        <c:crosses val="autoZero"/>
        <c:auto val="1"/>
        <c:lblAlgn val="ctr"/>
        <c:lblOffset val="100"/>
        <c:noMultiLvlLbl val="0"/>
      </c:catAx>
      <c:valAx>
        <c:axId val="251265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1367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9930-C2A2-452A-B25B-22CD7A22F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1C38-0D73-4E6C-958A-67AFF1463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309E-E320-4554-897D-285F40C69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A23C-10F1-47C7-A17D-BF1A891A2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F798-3F22-4FA1-BF3A-6ECABFB7D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3F04-A1C1-4901-908F-7A847AAFF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2B12-71A5-4605-B141-86615831F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F6D6-420A-49E0-85CA-BD241087D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501E-7A3B-4144-9974-F1CF5326B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C1C6-C731-4AA0-993B-2195C1A3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B8C8-8BFF-46E0-964D-E46CBD413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7B70-E4B0-4915-9500-A94A60E5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D70ECE-28E4-4E7C-B586-5838AC6B1AD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