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01210"/>
        <c:axId val="84262206"/>
      </c:barChart>
      <c:catAx>
        <c:axId val="55001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2206"/>
        <c:crosses val="autoZero"/>
        <c:auto val="1"/>
        <c:lblAlgn val="ctr"/>
        <c:lblOffset val="100"/>
        <c:noMultiLvlLbl val="0"/>
      </c:catAx>
      <c:valAx>
        <c:axId val="84262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01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FC7-48F4-4226-A398-5476920B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1C4-E038-42BF-AD31-3B888289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6C6-9842-425B-9D38-8ECCDEC4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92E-F55F-4C0B-BE4D-2CADC205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5AD-F63D-4EBA-A054-BF8CC6A4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283-C07E-4F60-AA74-FC71F2C4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A91-9956-44B3-9596-67625D89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518-8012-4193-852C-71190483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E80-2F8F-4F67-BA9B-FCABD467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3EB-AA93-401E-8138-34F7D59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799-A2EF-453E-9267-A2AA01E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F91-22DD-4BDA-B2C4-BC2D4A3C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4457A-D8CA-418C-9720-A766BF122B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