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93922"/>
        <c:axId val="28464334"/>
      </c:barChart>
      <c:catAx>
        <c:axId val="58993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64334"/>
        <c:crosses val="autoZero"/>
        <c:auto val="1"/>
        <c:lblAlgn val="ctr"/>
        <c:lblOffset val="100"/>
        <c:noMultiLvlLbl val="0"/>
      </c:catAx>
      <c:valAx>
        <c:axId val="28464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93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CF66-EF03-4636-83CC-A618E251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4A91-C72D-4E48-A7F3-A8A2EEDA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EE7-F1F1-4CC6-B6FE-45CC9293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F7D8-BEDA-45CE-B7EF-19CF7439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939-8D34-45D7-9C2F-BEE09E67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FAB-C592-4B88-B916-345E69AF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5A3-3433-4D16-A564-55AF42DD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676B-2D1C-4B44-9076-E9B64E3A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319-CFAA-4712-99CC-96D6BC9E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769-BD76-4B22-9D6F-DA3E370A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344-5F3A-40D1-BCE7-823276F5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61B-0A47-438E-A1D3-31D51FE3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C6797-89F1-40E0-9088-C3DD2E39F1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