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92662"/>
        <c:axId val="45216726"/>
      </c:barChart>
      <c:catAx>
        <c:axId val="51892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6726"/>
        <c:crosses val="autoZero"/>
        <c:auto val="1"/>
        <c:lblAlgn val="ctr"/>
        <c:lblOffset val="100"/>
        <c:noMultiLvlLbl val="0"/>
      </c:catAx>
      <c:valAx>
        <c:axId val="45216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92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D62-9EF7-4C33-9530-8BFF7561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32D-203E-414B-9199-85DADE33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834-B8F1-447D-92DB-D6130363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933-DA1B-4C2F-AF6E-EAFBD20F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F61-2EB8-47CC-AA8D-B3BF2E36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864-1795-4CE6-8E9F-A525F86E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274-747C-4F81-A443-647D1E92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791-F65E-4847-BEA9-DA4F76E9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46F-D252-4082-A20E-E321ADA5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00E-2DA1-44DF-A014-1DAF314A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A9C-DB3D-4251-846F-8910B08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D16-9149-4082-ACCE-93389AA7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34A5-AB99-4807-838E-221928960D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