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73033"/>
        <c:axId val="8656332"/>
      </c:barChart>
      <c:catAx>
        <c:axId val="70573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6332"/>
        <c:crosses val="autoZero"/>
        <c:auto val="1"/>
        <c:lblAlgn val="ctr"/>
        <c:lblOffset val="100"/>
        <c:noMultiLvlLbl val="0"/>
      </c:catAx>
      <c:valAx>
        <c:axId val="865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73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4C2-C947-4563-97FB-C7F98DF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8A2-1B66-4117-B92D-93C5756F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22B-46EE-4749-9D92-647FC2EF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26D-79EE-4690-8B83-C48D4583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29F-8F4C-42B3-B59F-48AA9EB3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1C9-3E90-4531-8F16-75B3FDF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14A-4BD3-4380-BB3B-D6ED29E6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DC9-CA19-494B-8781-EC8E3BD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20D-4D2B-4E47-B053-3A968F95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717-965F-4968-B8AD-E3D8B53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8A1-6E65-4148-AC2F-6B17824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5AB-0BFB-4B3B-98F2-07A4EBF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2C690-2DB1-49A8-9C84-FA710BE960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