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25702"/>
        <c:axId val="25575007"/>
      </c:barChart>
      <c:catAx>
        <c:axId val="26925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75007"/>
        <c:crosses val="autoZero"/>
        <c:auto val="1"/>
        <c:lblAlgn val="ctr"/>
        <c:lblOffset val="100"/>
        <c:noMultiLvlLbl val="0"/>
      </c:catAx>
      <c:valAx>
        <c:axId val="25575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25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E96-6A82-46E4-AA75-A3571948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0B9-2F57-4843-BE47-B1566418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759-113C-46B9-AB48-3D1F013E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3F8-27F8-4BD8-BADD-0D61A040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532-6FD9-4FB6-B6FA-1E9BAABF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34C-82E3-4C75-92C9-F941B041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3B3-2905-4A6D-B29A-D947DEC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9BF-3AB3-4064-88BB-C26E13F3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724-F06D-473A-9FD9-D8FE24CD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06E-9C14-47BA-864F-6ED3C73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7DC-FBD9-4148-99C0-A5598C8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F74-BC4D-4B7B-A8C1-99E43E6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05492-0467-417A-B33E-98F7C73C76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