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37900"/>
        <c:axId val="42569952"/>
      </c:barChart>
      <c:catAx>
        <c:axId val="28537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69952"/>
        <c:crosses val="autoZero"/>
        <c:auto val="1"/>
        <c:lblAlgn val="ctr"/>
        <c:lblOffset val="100"/>
        <c:noMultiLvlLbl val="0"/>
      </c:catAx>
      <c:valAx>
        <c:axId val="42569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37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FA3-0BE9-43F2-8C98-89A89C04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06E-97A5-4132-BCFE-C2BF5BAE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98A-8A75-490D-BC4D-1B9CCEFB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3C1-9800-4DD9-99BE-893D1A3D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80F-DAEE-469A-B6D9-C027D70B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515-5E47-47F6-80B0-F28A017D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1F7-5A7C-4064-AC69-E1E121EA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D3E-84EA-4231-8352-9F5E5FA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5B4-1448-4E11-ABB2-9F41D7A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1DF-3B43-4A87-85AA-312AF6A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EDB-0620-4656-98F7-324B583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47C-E808-47ED-9F80-CAC2965E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83C46-5B59-43F1-90B8-DE063E787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