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40174"/>
        <c:axId val="28214576"/>
      </c:barChart>
      <c:catAx>
        <c:axId val="80040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4576"/>
        <c:crosses val="autoZero"/>
        <c:auto val="1"/>
        <c:lblAlgn val="ctr"/>
        <c:lblOffset val="100"/>
        <c:noMultiLvlLbl val="0"/>
      </c:catAx>
      <c:valAx>
        <c:axId val="28214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0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CD5-66FE-47A9-9FD6-F0BF75D4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175-24C2-400A-9094-125EC62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C2A-92EC-42C8-8E6E-4B5FF81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09D-F248-4FA5-A9D3-DCF51494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C5-2749-46F9-8F08-1B8BE274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619-DF26-47BC-836F-5BD09282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7CF-0D0A-42CA-94D3-F8E793C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3EC-9C32-4752-9721-53E29C5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295-074F-4494-9E75-D39364D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872-98E6-4EA7-B7A7-2DBEC398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254-40B8-4BFC-818D-2360D22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8E4-CD11-4D35-8EAC-68C4F69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76D2F-0CBC-427D-9CF2-8640AD0EA9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